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2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C9979-5D3B-47AF-944C-C7C32B630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E9A1B-8AF3-4EAB-B5F4-DB2442FD023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A23C3-5FFD-4329-BFE6-F49BE568FFD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35564-944B-437D-8FD2-39B262EC890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DC534-003D-49F9-BEDB-40757384F92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A7CE7-3495-4A26-9031-E0D430BE752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BDDCE-D2AE-4084-A0D2-EB5B0A2F394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9417E-107D-4B54-AAE7-CDEB0691F98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0138-5A4F-4B5B-BEB9-E13FF11B3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62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62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4354-23AE-4EED-BF96-E7EE4E6E2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70120"/>
            <a:ext cx="4424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6520"/>
            <a:ext cx="4424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670E-A6D3-4739-9F96-55C96DEFE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2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70120"/>
            <a:ext cx="29192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70120"/>
            <a:ext cx="29192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2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6520"/>
            <a:ext cx="29192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6520"/>
            <a:ext cx="29192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2BAC-6D95-42A6-8FEC-96C64EA71B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62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8F19-93BF-4771-AEE0-32DD92711B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62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CA3E-85CC-4608-B989-ED923ACFB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70120"/>
            <a:ext cx="4424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6994-180A-4FDC-B90C-83AEEFE12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9FE4-09A4-4588-BDBA-C76E19264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832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2C1E-1B17-46B2-83C7-E9287C8A9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70120"/>
            <a:ext cx="4424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DBA2-929A-476F-850C-493EA42BA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70120"/>
            <a:ext cx="4424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6520"/>
            <a:ext cx="4424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F5D1-F45C-48FA-8891-84BD56214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70120"/>
            <a:ext cx="4424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62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BA66-0B11-4CE0-9550-7A4F21F63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f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3280" y="6888240"/>
            <a:ext cx="2340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46640" y="6888240"/>
            <a:ext cx="3186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24480" y="68882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86286-711F-476F-AB8C-ADEDCB37C8A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62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f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3280" y="345960"/>
            <a:ext cx="90676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Name Of Ec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280" y="1814400"/>
            <a:ext cx="906768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SimSun"/>
              </a:rPr>
              <a:t>Grasslan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f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345960"/>
            <a:ext cx="90676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Grasslands clim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280" y="1814400"/>
            <a:ext cx="906768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Grasslands get rain a lot inorder for it not to get to dry because the land will die and not grow back for a long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f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345960"/>
            <a:ext cx="90676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Lifespan of 2 or more animal`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3280" y="1814400"/>
            <a:ext cx="906768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Lifespan of Leopard is: 12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Lifespan of Tiger: 20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f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3280" y="390600"/>
            <a:ext cx="906624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Scientific na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3280" y="1857240"/>
            <a:ext cx="906624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igers scientific nam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engal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leopards scientific nam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ub-saha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leop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f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479520"/>
            <a:ext cx="90662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MY grassland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1946160"/>
            <a:ext cx="906624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416320"/>
            <a:ext cx="8458200" cy="37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f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3280" y="479520"/>
            <a:ext cx="90662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Snakes!!!! Mrs. clelands “favorit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3280" y="1946160"/>
            <a:ext cx="906624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nakes are slimy and they bite but some dont and but all baby snakes do and after you answer these questions you will be afraid just like Mrs. clel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f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1857240"/>
            <a:ext cx="9063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3280" y="1814040"/>
            <a:ext cx="90676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ry did not have to write question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f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59760" cy="1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cour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1814040"/>
            <a:ext cx="90676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animal.discovery.com/wild-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